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013-06D0-4F5E-90B5-1E657E8C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146-5D5B-41DB-8A16-3B8EBD6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93D-1189-46F1-9904-5E5CA2EE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6B9-EEC2-4369-8746-1DD5350F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5B25-0E5D-43C7-9531-E8823029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463-7F8D-403F-815B-F4677C2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5902-CC3A-4C39-9238-B0BDF7C5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995B-0EE5-4C22-B923-EEEB8D7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DDA-0589-47CE-8F3D-6ABF6DF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AED-CF0B-4030-9831-66AB2AF6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324-1D6A-4881-9DB5-2D146C1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F7A-05CE-423E-92E5-CA15831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61FB-C2AE-4305-AE89-B2889E2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F75-6055-467C-864D-EA615AA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7A8-579A-4A4F-9973-F999B1C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C5F1-020E-4C34-8930-58279F87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528-259F-4690-9508-7C447F81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9C5B6-583C-4FAE-80CD-C241219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FCE53-2997-4AAF-B754-4D1B243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4FF73-10DA-47DC-8F9E-86011CB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DC9F5-32A9-451D-BD82-8980155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C5F8C-3D0E-4EF7-BA7A-B25563FC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5BA-EA26-4443-A872-8A0962F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32550-7C00-403D-8299-CE298526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5EB91-659F-43C3-930F-21229C7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E6B2E-BFD4-46E8-A989-E216304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90249-4287-4723-B3D3-E610D3D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E05AE-D694-4765-B028-C85A653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54AE5-5770-4315-BD95-8DE2240B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348E3-0AB3-4346-9F18-82DAC08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E278-8D6B-44A9-A88E-7F982F75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561A-7F6D-4446-AD0C-0371751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8256-1142-48D3-AF99-FA9955B3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217-3DD0-4C87-9F62-B6D255C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E72F-BC82-4B78-901B-762AB16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C9A9-4FD4-4293-8D65-93130431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3AB2-3320-4278-A712-0A0EB9F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CF9D-4715-49AD-8628-EA1F444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32AEF-C321-41F2-B571-7442A29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CCB7-D9F8-4177-B3F6-1348605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FE46-056B-4FDB-960C-7987714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FF16-7CF3-4962-9EC7-92276A42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E850-1A89-4332-BDF2-A26CE59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FC5-8339-4F4E-A09E-0B7DA837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6B6-0C28-45AD-988F-7A93475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8B3-71C8-4ABC-9D60-6F3E392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062-2DF5-44E9-A536-85DC6A0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527-09A0-45D8-AA35-149F43F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FD0-E811-49B8-BFD5-1CD4396BB898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D84-1351-49DE-B572-E7CF9D41BA69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6E8-8E8A-4448-8D87-C320C376CE6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2DBE-27B2-4AAF-99F2-1FAA15BA78D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Rozwiązywanie zadań tekstowych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astosowaniem równań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– figury geometryczn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324000" y="5084640"/>
            <a:ext cx="1584000" cy="14414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1476360" y="4076640"/>
            <a:ext cx="2232000" cy="1554120"/>
          </a:xfrm>
          <a:custGeom>
            <a:avLst/>
            <a:gdLst>
              <a:gd name="textAreaLeft" fmla="*/ 464760 w 2232000"/>
              <a:gd name="textAreaRight" fmla="*/ 1767240 w 2232000"/>
              <a:gd name="textAreaTop" fmla="*/ 323640 h 1554120"/>
              <a:gd name="textAreaBottom" fmla="*/ 12304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2b2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5076720" y="4221000"/>
            <a:ext cx="1511280" cy="1656000"/>
          </a:xfrm>
          <a:prstGeom prst="diamond">
            <a:avLst/>
          </a:prstGeom>
          <a:solidFill>
            <a:srgbClr val="fef876"/>
          </a:solidFill>
          <a:ln w="9360">
            <a:solidFill>
              <a:srgbClr val="efe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6804000" y="5280120"/>
            <a:ext cx="1871640" cy="1317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7812000" y="4076640"/>
            <a:ext cx="1008000" cy="936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2771640" y="5445000"/>
            <a:ext cx="2521080" cy="1079640"/>
          </a:xfrm>
          <a:prstGeom prst="parallelogram">
            <a:avLst>
              <a:gd name="adj" fmla="val 58378"/>
            </a:avLst>
          </a:prstGeom>
          <a:solidFill>
            <a:srgbClr val="ff9900"/>
          </a:solidFill>
          <a:ln w="9360">
            <a:solidFill>
              <a:srgbClr val="dc8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ole tekstowe 6"/>
          <p:cNvSpPr/>
          <p:nvPr/>
        </p:nvSpPr>
        <p:spPr>
          <a:xfrm>
            <a:off x="5796000" y="155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 miara kąta rozwart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179280" y="1773360"/>
            <a:ext cx="2737080" cy="504720"/>
          </a:xfrm>
          <a:prstGeom prst="wedgeRectCallout">
            <a:avLst>
              <a:gd name="adj1" fmla="val -3074"/>
              <a:gd name="adj2" fmla="val -1251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stalamy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826920" y="2565360"/>
            <a:ext cx="3961080" cy="649440"/>
          </a:xfrm>
          <a:prstGeom prst="wedgeRectCallout">
            <a:avLst>
              <a:gd name="adj1" fmla="val 47152"/>
              <a:gd name="adj2" fmla="val -104277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ąt ostry jest cztery razy mniejszy od kąta rozwartego, co zapisuje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4"/>
          <p:cNvSpPr/>
          <p:nvPr/>
        </p:nvSpPr>
        <p:spPr>
          <a:xfrm>
            <a:off x="611280" y="3500280"/>
            <a:ext cx="3816360" cy="1008360"/>
          </a:xfrm>
          <a:prstGeom prst="wedgeRectCallout">
            <a:avLst>
              <a:gd name="adj1" fmla="val 65430"/>
              <a:gd name="adj2" fmla="val -37083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rzy rozwiązywaniu zadań czasami warto wykonać rysunek pomocniczy i zaznaczyć na nim informacje z zad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7"/>
          <p:cNvSpPr/>
          <p:nvPr/>
        </p:nvSpPr>
        <p:spPr>
          <a:xfrm>
            <a:off x="539640" y="4869000"/>
            <a:ext cx="4464000" cy="1081080"/>
          </a:xfrm>
          <a:prstGeom prst="wedgeRectCallout">
            <a:avLst>
              <a:gd name="adj1" fmla="val 56328"/>
              <a:gd name="adj2" fmla="val -27972"/>
            </a:avLst>
          </a:prstGeom>
          <a:solidFill>
            <a:srgbClr val="438086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korzystamy z informacji, że suma kątów w równoległoboku równa się 360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  <a:ea typeface="Arial"/>
              </a:rPr>
              <a:t>˚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  lub, co jest wygodniejsze, że suma kątów leżących przy jednym ramieniu równa się 180 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˚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. Zapisujemy równa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5076720" y="1916280"/>
                <a:ext cx="919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pole tekstowe 6"/>
          <p:cNvSpPr/>
          <p:nvPr/>
        </p:nvSpPr>
        <p:spPr>
          <a:xfrm>
            <a:off x="5688000" y="20955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 miara kąta ostr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7"/>
          <p:cNvSpPr/>
          <p:nvPr/>
        </p:nvSpPr>
        <p:spPr>
          <a:xfrm>
            <a:off x="5651640" y="2781360"/>
            <a:ext cx="2808000" cy="1008000"/>
          </a:xfrm>
          <a:prstGeom prst="parallelogram">
            <a:avLst>
              <a:gd name="adj" fmla="val 69643"/>
            </a:avLst>
          </a:prstGeom>
          <a:solidFill>
            <a:srgbClr val="fef876"/>
          </a:solidFill>
          <a:ln w="9360">
            <a:solidFill>
              <a:srgbClr val="c2a8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68"/>
          <p:cNvSpPr/>
          <p:nvPr/>
        </p:nvSpPr>
        <p:spPr>
          <a:xfrm>
            <a:off x="5940360" y="3357720"/>
            <a:ext cx="289080" cy="447480"/>
          </a:xfrm>
          <a:custGeom>
            <a:avLst/>
            <a:gdLst/>
            <a:ahLst/>
            <a:rect l="l" t="t" r="r" b="b"/>
            <a:pathLst>
              <a:path fill="none" w="21600" h="269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95"/>
                  <a:pt x="21376" y="25183"/>
                  <a:pt x="20933" y="26923"/>
                </a:cubicBezTo>
              </a:path>
              <a:path stroke="0" w="21600" h="269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95"/>
                  <a:pt x="21376" y="25183"/>
                  <a:pt x="20933" y="2692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69"/>
          <p:cNvSpPr/>
          <p:nvPr/>
        </p:nvSpPr>
        <p:spPr>
          <a:xfrm flipV="1">
            <a:off x="6116760" y="2781360"/>
            <a:ext cx="761760" cy="288720"/>
          </a:xfrm>
          <a:custGeom>
            <a:avLst/>
            <a:gdLst/>
            <a:ahLst/>
            <a:rect l="l" t="t" r="r" b="b"/>
            <a:pathLst>
              <a:path fill="none" w="25345" h="21600">
                <a:moveTo>
                  <a:pt x="0" y="327"/>
                </a:moveTo>
                <a:cubicBezTo>
                  <a:pt x="1236" y="109"/>
                  <a:pt x="2489" y="-1"/>
                  <a:pt x="3745" y="0"/>
                </a:cubicBezTo>
                <a:cubicBezTo>
                  <a:pt x="15674" y="0"/>
                  <a:pt x="25345" y="9670"/>
                  <a:pt x="25345" y="21600"/>
                </a:cubicBezTo>
              </a:path>
              <a:path stroke="0" w="25345" h="21600">
                <a:moveTo>
                  <a:pt x="0" y="327"/>
                </a:moveTo>
                <a:cubicBezTo>
                  <a:pt x="1236" y="109"/>
                  <a:pt x="2489" y="-1"/>
                  <a:pt x="3745" y="0"/>
                </a:cubicBezTo>
                <a:cubicBezTo>
                  <a:pt x="15674" y="0"/>
                  <a:pt x="25345" y="9670"/>
                  <a:pt x="25345" y="21600"/>
                </a:cubicBezTo>
                <a:lnTo>
                  <a:pt x="3745" y="21600"/>
                </a:lnTo>
                <a:lnTo>
                  <a:pt x="0" y="3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70"/>
              <p:cNvSpPr txBox="1"/>
              <p:nvPr/>
            </p:nvSpPr>
            <p:spPr>
              <a:xfrm>
                <a:off x="5796000" y="3357720"/>
                <a:ext cx="420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1"/>
              <p:cNvSpPr txBox="1"/>
              <p:nvPr/>
            </p:nvSpPr>
            <p:spPr>
              <a:xfrm>
                <a:off x="6300720" y="278136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2"/>
              <p:cNvSpPr txBox="1"/>
              <p:nvPr/>
            </p:nvSpPr>
            <p:spPr>
              <a:xfrm>
                <a:off x="5508720" y="162864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3"/>
              <p:cNvSpPr txBox="1"/>
              <p:nvPr/>
            </p:nvSpPr>
            <p:spPr>
              <a:xfrm>
                <a:off x="5435640" y="4581360"/>
                <a:ext cx="3168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7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79280" y="1773360"/>
            <a:ext cx="3961080" cy="647640"/>
          </a:xfrm>
          <a:prstGeom prst="wedgeRectCallout">
            <a:avLst>
              <a:gd name="adj1" fmla="val -44027"/>
              <a:gd name="adj2" fmla="val -1218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ułamka, mnożymy obie strony równania przez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725480" y="2781360"/>
            <a:ext cx="2737080" cy="431640"/>
          </a:xfrm>
          <a:prstGeom prst="wedgeRectCallout">
            <a:avLst>
              <a:gd name="adj1" fmla="val 61717"/>
              <a:gd name="adj2" fmla="val -1911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 otrzym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1187280" y="3716280"/>
            <a:ext cx="3240360" cy="720720"/>
          </a:xfrm>
          <a:prstGeom prst="wedgeRectCallout">
            <a:avLst>
              <a:gd name="adj1" fmla="val 60337"/>
              <a:gd name="adj2" fmla="val -5726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rozwiązujemy równ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874800" y="5084640"/>
            <a:ext cx="3744720" cy="793800"/>
          </a:xfrm>
          <a:prstGeom prst="wedgeRectCallout">
            <a:avLst>
              <a:gd name="adj1" fmla="val 62842"/>
              <a:gd name="adj2" fmla="val -2925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liczyliśmy miarę kąta rozwart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8"/>
          <p:cNvGrpSpPr/>
          <p:nvPr/>
        </p:nvGrpSpPr>
        <p:grpSpPr>
          <a:xfrm>
            <a:off x="5651640" y="692280"/>
            <a:ext cx="2808000" cy="1023840"/>
            <a:chOff x="5651640" y="692280"/>
            <a:chExt cx="2808000" cy="1023840"/>
          </a:xfrm>
        </p:grpSpPr>
        <p:sp>
          <p:nvSpPr>
            <p:cNvPr id="245" name="AutoShape 9"/>
            <p:cNvSpPr/>
            <p:nvPr/>
          </p:nvSpPr>
          <p:spPr>
            <a:xfrm>
              <a:off x="5651640" y="69228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rc 10"/>
            <p:cNvSpPr/>
            <p:nvPr/>
          </p:nvSpPr>
          <p:spPr>
            <a:xfrm>
              <a:off x="5940360" y="126864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11"/>
            <p:cNvSpPr/>
            <p:nvPr/>
          </p:nvSpPr>
          <p:spPr>
            <a:xfrm flipV="1">
              <a:off x="6116760" y="69192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12"/>
                <p:cNvSpPr txBox="1"/>
                <p:nvPr/>
              </p:nvSpPr>
              <p:spPr>
                <a:xfrm>
                  <a:off x="5867280" y="126864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Object 13"/>
                <p:cNvSpPr txBox="1"/>
                <p:nvPr/>
              </p:nvSpPr>
              <p:spPr>
                <a:xfrm>
                  <a:off x="6300720" y="69228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5219640" y="1998720"/>
                <a:ext cx="3743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/>
                    </m:f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5"/>
              <p:cNvSpPr txBox="1"/>
              <p:nvPr/>
            </p:nvSpPr>
            <p:spPr>
              <a:xfrm>
                <a:off x="5219640" y="3068640"/>
                <a:ext cx="3247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292720" y="4365720"/>
                <a:ext cx="27608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5292720" y="3716280"/>
                <a:ext cx="250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8"/>
              <p:cNvSpPr txBox="1"/>
              <p:nvPr/>
            </p:nvSpPr>
            <p:spPr>
              <a:xfrm>
                <a:off x="6012000" y="5157720"/>
                <a:ext cx="2270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AutoShape 19"/>
          <p:cNvSpPr/>
          <p:nvPr/>
        </p:nvSpPr>
        <p:spPr>
          <a:xfrm>
            <a:off x="5219640" y="6165720"/>
            <a:ext cx="3024360" cy="505080"/>
          </a:xfrm>
          <a:prstGeom prst="wedgeRectCallout">
            <a:avLst>
              <a:gd name="adj1" fmla="val -1337"/>
              <a:gd name="adj2" fmla="val -111319"/>
            </a:avLst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miara kąta rozwart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79280" y="1773360"/>
            <a:ext cx="3961080" cy="863640"/>
          </a:xfrm>
          <a:prstGeom prst="wedgeRectCallout">
            <a:avLst>
              <a:gd name="adj1" fmla="val 32444"/>
              <a:gd name="adj2" fmla="val -873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liczamy miarę kąta ostrego,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ąt ostry jest 4 razy mniejszy od kąta rozwart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1674720" y="3139920"/>
            <a:ext cx="2737080" cy="432000"/>
          </a:xfrm>
          <a:prstGeom prst="wedgeRectCallout">
            <a:avLst>
              <a:gd name="adj1" fmla="val 64504"/>
              <a:gd name="adj2" fmla="val -127203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 otrzym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900000" y="3933720"/>
            <a:ext cx="3529080" cy="1079640"/>
          </a:xfrm>
          <a:prstGeom prst="wedgeRectCallout">
            <a:avLst>
              <a:gd name="adj1" fmla="val 68893"/>
              <a:gd name="adj2" fmla="val 3191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sprawdzamy czy  obliczone kąty  spełniają warunki zadania,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ąt rozwarty jest 4 razy większy od kąta ost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55640" y="5589720"/>
            <a:ext cx="3816360" cy="576000"/>
          </a:xfrm>
          <a:prstGeom prst="wedgeRectCallout">
            <a:avLst>
              <a:gd name="adj1" fmla="val 64226"/>
              <a:gd name="adj2" fmla="val 34847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tych kątów powinna być równa 180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sprawdza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8"/>
          <p:cNvGrpSpPr/>
          <p:nvPr/>
        </p:nvGrpSpPr>
        <p:grpSpPr>
          <a:xfrm>
            <a:off x="5651640" y="692280"/>
            <a:ext cx="2808000" cy="1023840"/>
            <a:chOff x="5651640" y="692280"/>
            <a:chExt cx="2808000" cy="1023840"/>
          </a:xfrm>
        </p:grpSpPr>
        <p:sp>
          <p:nvSpPr>
            <p:cNvPr id="263" name="AutoShape 11"/>
            <p:cNvSpPr/>
            <p:nvPr/>
          </p:nvSpPr>
          <p:spPr>
            <a:xfrm>
              <a:off x="5651640" y="69228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12"/>
            <p:cNvSpPr/>
            <p:nvPr/>
          </p:nvSpPr>
          <p:spPr>
            <a:xfrm>
              <a:off x="5940360" y="126864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3"/>
            <p:cNvSpPr/>
            <p:nvPr/>
          </p:nvSpPr>
          <p:spPr>
            <a:xfrm flipV="1">
              <a:off x="6116760" y="69192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4"/>
                <p:cNvSpPr txBox="1"/>
                <p:nvPr/>
              </p:nvSpPr>
              <p:spPr>
                <a:xfrm>
                  <a:off x="5867280" y="126864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15"/>
                <p:cNvSpPr txBox="1"/>
                <p:nvPr/>
              </p:nvSpPr>
              <p:spPr>
                <a:xfrm>
                  <a:off x="6300720" y="69228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8" name="Object 22"/>
              <p:cNvSpPr txBox="1"/>
              <p:nvPr/>
            </p:nvSpPr>
            <p:spPr>
              <a:xfrm>
                <a:off x="5148360" y="2708280"/>
                <a:ext cx="352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AutoShape 23"/>
          <p:cNvSpPr/>
          <p:nvPr/>
        </p:nvSpPr>
        <p:spPr>
          <a:xfrm>
            <a:off x="5796000" y="3573360"/>
            <a:ext cx="3024000" cy="505080"/>
          </a:xfrm>
          <a:prstGeom prst="wedgeRectCallout">
            <a:avLst>
              <a:gd name="adj1" fmla="val 25435"/>
              <a:gd name="adj2" fmla="val -116666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miara kąta ost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4"/>
              <p:cNvSpPr txBox="1"/>
              <p:nvPr/>
            </p:nvSpPr>
            <p:spPr>
              <a:xfrm>
                <a:off x="5796000" y="1989000"/>
                <a:ext cx="2270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5"/>
              <p:cNvSpPr txBox="1"/>
              <p:nvPr/>
            </p:nvSpPr>
            <p:spPr>
              <a:xfrm>
                <a:off x="5364000" y="4653000"/>
                <a:ext cx="340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°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6"/>
              <p:cNvSpPr txBox="1"/>
              <p:nvPr/>
            </p:nvSpPr>
            <p:spPr>
              <a:xfrm>
                <a:off x="5219640" y="5877000"/>
                <a:ext cx="3780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536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250920" y="2565360"/>
            <a:ext cx="3960720" cy="863640"/>
          </a:xfrm>
          <a:prstGeom prst="wedgeRectCallout">
            <a:avLst>
              <a:gd name="adj1" fmla="val 24629"/>
              <a:gd name="adj2" fmla="val -105148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po sprawdzeniu zapisujemy odpowied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5796000" y="2205000"/>
            <a:ext cx="2808000" cy="1023840"/>
            <a:chOff x="5796000" y="2205000"/>
            <a:chExt cx="2808000" cy="1023840"/>
          </a:xfrm>
        </p:grpSpPr>
        <p:sp>
          <p:nvSpPr>
            <p:cNvPr id="277" name="AutoShape 9"/>
            <p:cNvSpPr/>
            <p:nvPr/>
          </p:nvSpPr>
          <p:spPr>
            <a:xfrm>
              <a:off x="5796000" y="220500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rc 10"/>
            <p:cNvSpPr/>
            <p:nvPr/>
          </p:nvSpPr>
          <p:spPr>
            <a:xfrm>
              <a:off x="6084720" y="278136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rc 11"/>
            <p:cNvSpPr/>
            <p:nvPr/>
          </p:nvSpPr>
          <p:spPr>
            <a:xfrm flipV="1">
              <a:off x="6261120" y="220500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Object 12"/>
                <p:cNvSpPr txBox="1"/>
                <p:nvPr/>
              </p:nvSpPr>
              <p:spPr>
                <a:xfrm>
                  <a:off x="6011640" y="278136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6445080" y="220500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AutoShape 15"/>
          <p:cNvSpPr/>
          <p:nvPr/>
        </p:nvSpPr>
        <p:spPr>
          <a:xfrm>
            <a:off x="1835280" y="3860640"/>
            <a:ext cx="5832360" cy="863640"/>
          </a:xfrm>
          <a:prstGeom prst="wedgeRectCallout">
            <a:avLst>
              <a:gd name="adj1" fmla="val 6750"/>
              <a:gd name="adj2" fmla="val -2463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Kąty równoległoboku mają miary 144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i  36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59:51Z</dcterms:modified>
  <cp:revision>85</cp:revision>
  <dc:subject/>
  <dc:title>Prezentacja programu PowerPoint</dc:title>
</cp:coreProperties>
</file>